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86FF-5D94-477F-A04E-AB9CFB8FE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1AD0-E163-41C0-9CA3-C32043DD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7F5F-850E-4D9F-9F89-9C6D01292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0364-34A7-4C62-8BC1-ACFC3245D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B731-CC4C-49EA-847B-5C4A1231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B16C-A5B5-44D2-B32A-83106F23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DB16-3AB9-4DA8-84A8-AC3307C1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AABA-7B00-45E6-8B42-8A20186F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969A-186F-4F8D-8AF7-53ACA78A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55D4-30DF-4208-AA17-26D4F08F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08A0-CABB-4103-8EA1-769AB3D8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8FAD-E592-44F6-9AD4-099EBF59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4770-8037-4C62-A0F9-95DCAAD9FC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hapter 1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ing Feature Sto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is a feature story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ghter, more hu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t have some news val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written in inverted pyramid sty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imelines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stories are evergre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mel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s features are time sensi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nd needing unifor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reative Sty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crea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llow general journalistic conven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can spice up stories someti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try to write funny if you can’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nlimited Possibilit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st and various story opportun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en the Argus and you will find many feat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ersonality Profi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ing in-depth about an individu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goc Thach – Profile of Dr. Lora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cher profiles in each iss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ed to find an ang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the humanity in the individu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write a profil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inally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sorts of features would fit well in th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Knight Scroll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20:41:25Z</dcterms:created>
  <dc:creator>jvanengen</dc:creator>
  <dc:description/>
  <dc:language>en-US</dc:language>
  <cp:lastModifiedBy>Administrator</cp:lastModifiedBy>
  <dcterms:modified xsi:type="dcterms:W3CDTF">2010-10-25T19:03:22Z</dcterms:modified>
  <cp:revision>5</cp:revision>
  <dc:subject/>
  <dc:title>Chapter 11</dc:title>
</cp:coreProperties>
</file>